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3.png" ContentType="image/png"/>
  <Override PartName="/ppt/media/image17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36.jpeg" ContentType="image/jpeg"/>
  <Override PartName="/ppt/media/image51.jpeg" ContentType="image/jpeg"/>
  <Override PartName="/ppt/media/image62.png" ContentType="image/png"/>
  <Override PartName="/ppt/media/image21.jpeg" ContentType="image/jpeg"/>
  <Override PartName="/ppt/media/image65.png" ContentType="image/png"/>
  <Override PartName="/ppt/media/image74.png" ContentType="image/png"/>
  <Override PartName="/ppt/media/image16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23.jpeg" ContentType="image/jpeg"/>
  <Override PartName="/ppt/media/image4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7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5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8CD-2A95-4345-8111-8D0A53799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ADF-12AF-4EFF-8F3F-D4D6E9C1D3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EFE8-B5CD-4C10-B052-9DDCCDB81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F56-03F5-49DD-A172-B019F38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40C-F345-47B0-B89C-A57BDCC0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B92-8533-42BE-BB9C-9EB6018A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ACB-9353-4E84-B963-D6065757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0121-98A6-4532-92C7-386D9AD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BF9-C248-49A1-BD53-A8F231D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72B9-F0AC-4C28-9A3B-29F4BCAF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841A-3E49-4A7B-9CF7-18DBCDD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6E73-8565-481B-A9F2-1E274441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C5F-D1EA-4B02-A095-514715E5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4CAE-9F3E-44EB-A0B5-BE3E7B7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6F0-0AA4-45DD-92A8-B864E4FE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AFA9-A7CD-4AE7-9C05-3CC5FB1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110B-0799-4369-8A80-ABC0B05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689-63B2-43C0-B9AB-B08E76A8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0F2-F199-4EED-BFDE-209CB4C3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D21-D80F-4B3E-AB5A-BDB54C11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F46-D3C2-4272-9C9D-AD0300D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E0F-FCB3-49E9-97F6-46EB9FA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195-D33C-4D54-9549-3CF46ED6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429-33D2-44F8-B274-E39F5C4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D77-0380-4238-BB23-69BAC2FA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EB9-0410-4EF0-9CFC-07AB3B17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E64-6312-4623-B0B3-2BA60A2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3F38-175A-4851-B829-FA5EBE62B6F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95C8-2706-4565-9F9B-B5C1BC1895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yandex.ru/yandsearch?source=wiz&amp;img_url=http://otvertka.appee.ru/media/08_brusnika.jpg&amp;uinfo=sw-1583-sh-741-fw-0-fh-535-pd-1&amp;text=&#1082;&#1072;&#1088;&#1090;&#1080;&#1085;&#1082;&#1080;%20&#1083;&#1077;&#1089;&#1085;&#1099;%20&#1103;&#1075;&#1086;&#1076;&amp;noreask=1&amp;pos=29&amp;lr=47&amp;rpt=simage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hyperlink" Target="http://images.yandex.ru/yandsearch?source=wiz&amp;img_url=http://img-fotki.yandex.ru/get/4306/val-pavlovna.55/0_314f0_87f17060_XL&amp;uinfo=sw-1583-sh-741-fw-0-fh-535-pd-1&amp;text=&#1082;&#1072;&#1088;&#1090;&#1080;&#1085;&#1082;&#1080;%20&#1075;&#1088;&#1080;&#1073;&#1099;&amp;noreask=1&amp;pos=6&amp;lr=47&amp;rpt=simage" TargetMode="External"/><Relationship Id="rId9" Type="http://schemas.openxmlformats.org/officeDocument/2006/relationships/image" Target="../media/image27.jpeg"/><Relationship Id="rId10" Type="http://schemas.openxmlformats.org/officeDocument/2006/relationships/hyperlink" Target="http://images.yandex.ru/yandsearch?source=wiz&amp;img_url=http://img0.liveinternet.ru/images/attach/c/0/33/883/33883073_7.JPG&amp;uinfo=sw-1583-sh-741-fw-0-fh-535-pd-1&amp;text=&#1082;&#1072;&#1088;&#1090;&#1080;&#1085;&#1082;&#1080;%20&#1075;&#1088;&#1080;&#1073;&#1099;&amp;noreask=1&amp;pos=11&amp;lr=47&amp;rpt=simage" TargetMode="External"/><Relationship Id="rId11" Type="http://schemas.openxmlformats.org/officeDocument/2006/relationships/image" Target="../media/image28.jpeg"/><Relationship Id="rId12" Type="http://schemas.openxmlformats.org/officeDocument/2006/relationships/hyperlink" Target="http://images.yandex.ru/yandsearch?source=wiz&amp;img_url=http://img.tumix.ru/common-1200x700/0/data/content/9386.muhomor.jpg&amp;uinfo=sw-1583-sh-741-fw-0-fh-535-pd-1&amp;text=&#1082;&#1072;&#1088;&#1090;&#1080;&#1085;&#1082;&#1080;%20&#1075;&#1088;&#1080;&#1073;&#1099;&amp;noreask=1&amp;pos=13&amp;lr=47&amp;rpt=simage" TargetMode="External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rambler.ru/pic_cache?url=http://www.spim.ru/info/page_387_18.html&amp;bi=http://spim.ru/i/tolk/krapiva.jpg&amp;i=http://media3.picsearch.com/is?2drU-8gKN25mGk9LTiP1FnCFp4hul7OhioLZieLprFc&amp;w=96&amp;h=128&amp;f=18&amp;q=&#1082;&#1088;&#1072;&#1087;&#1080;&#1074;&#1072;&amp;p=1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58.jpeg"/><Relationship Id="rId14" Type="http://schemas.openxmlformats.org/officeDocument/2006/relationships/image" Target="../media/image59.jpeg"/><Relationship Id="rId15" Type="http://schemas.openxmlformats.org/officeDocument/2006/relationships/image" Target="../media/image60.jpe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yandsearch?text=&#1082;&#1072;&#1088;&#1090;&#1080;&#1085;&#1082;&#1080;%20&#1089;&#1084;&#1077;&#1096;&#1072;&#1085;&#1085;&#1086;&#1075;&#1086;%20&#1083;&#1077;&#1089;&#1072;&amp;img_url=http://img-fotki.yandex.ru/get/4523/103425212.5d/0_5d984_d67f4ca0_XL&amp;pos=4&amp;uinfo=sw-1583-sh-741-fw-1358-fh-535-pd-1&amp;rpt=simage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image" Target="../media/image70.jpeg"/><Relationship Id="rId12" Type="http://schemas.openxmlformats.org/officeDocument/2006/relationships/image" Target="../media/image71.jpeg"/><Relationship Id="rId13" Type="http://schemas.openxmlformats.org/officeDocument/2006/relationships/image" Target="../media/image6.png"/><Relationship Id="rId14" Type="http://schemas.openxmlformats.org/officeDocument/2006/relationships/image" Target="../media/image72.jpe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://s61.radikal.ru/i173/0906/1c/e0928a2826d0.gif&amp;uinfo=sw-1583-sh-741-fw-0-fh-535-pd-1&amp;text=&#1082;&#1072;&#1088;&#1090;&#1080;&#1085;&#1082;&#1080;%20&#1076;&#1077;&#1088;&#1077;&#1074;&#1072;%20&#1088;&#1103;&#1073;&#1080;&#1085;&#1099;&amp;noreask=1&amp;pos=29&amp;lr=47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4211640" y="6453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Прямоугольник 5" descr=""/>
          <p:cNvPicPr/>
          <p:nvPr/>
        </p:nvPicPr>
        <p:blipFill>
          <a:blip r:embed="rId1"/>
          <a:stretch/>
        </p:blipFill>
        <p:spPr>
          <a:xfrm>
            <a:off x="139680" y="755640"/>
            <a:ext cx="8961480" cy="3121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79280" y="620640"/>
            <a:ext cx="32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том рад я св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Ягоде медвежь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 сушёная в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т простуды лечит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Скачать фото малины"/>
          <p:cNvPicPr/>
          <p:nvPr/>
        </p:nvPicPr>
        <p:blipFill>
          <a:blip r:embed="rId1"/>
          <a:srcRect l="0" t="0" r="0" b="6211"/>
          <a:stretch/>
        </p:blipFill>
        <p:spPr>
          <a:xfrm>
            <a:off x="179280" y="2421000"/>
            <a:ext cx="3097440" cy="2376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927720" y="50846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ма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203640" y="404640"/>
            <a:ext cx="30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Я капелька 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 тоненькой но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летут для м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узовки и лук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то меня люб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 рад покло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 имя дала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одная зем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Земляника"/>
          <p:cNvPicPr/>
          <p:nvPr/>
        </p:nvPicPr>
        <p:blipFill>
          <a:blip r:embed="rId2"/>
          <a:stretch/>
        </p:blipFill>
        <p:spPr>
          <a:xfrm>
            <a:off x="5940360" y="333360"/>
            <a:ext cx="3024360" cy="2247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6495480" y="2637000"/>
            <a:ext cx="23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земля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3419640" y="321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то за бусинка вот 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стебле повис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лянешь – слюнки потек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 раскусишь – к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4314600" y="4581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брус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1" descr="http://im5-tub-ru.yandex.net/i?id=5593598-59-72&amp;n=21">
            <a:hlinkClick r:id="rId3"/>
          </p:cNvPr>
          <p:cNvPicPr/>
          <p:nvPr/>
        </p:nvPicPr>
        <p:blipFill>
          <a:blip r:embed="rId4"/>
          <a:srcRect l="0" t="0" r="0" b="3124"/>
          <a:stretch/>
        </p:blipFill>
        <p:spPr>
          <a:xfrm>
            <a:off x="6084720" y="4437000"/>
            <a:ext cx="2880000" cy="223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577960" y="-360360"/>
            <a:ext cx="4584960" cy="28051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Белый гриб березовый фото 2"/>
          <p:cNvPicPr/>
          <p:nvPr/>
        </p:nvPicPr>
        <p:blipFill>
          <a:blip r:embed="rId2"/>
          <a:stretch/>
        </p:blipFill>
        <p:spPr>
          <a:xfrm>
            <a:off x="468360" y="1052640"/>
            <a:ext cx="316692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Опенок осенний фото 1"/>
          <p:cNvPicPr/>
          <p:nvPr/>
        </p:nvPicPr>
        <p:blipFill>
          <a:blip r:embed="rId3"/>
          <a:stretch/>
        </p:blipFill>
        <p:spPr>
          <a:xfrm>
            <a:off x="2411280" y="1197000"/>
            <a:ext cx="2521080" cy="2303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Лисичка обыкновенная фото 6"/>
          <p:cNvPicPr/>
          <p:nvPr/>
        </p:nvPicPr>
        <p:blipFill>
          <a:blip r:embed="rId4"/>
          <a:stretch/>
        </p:blipFill>
        <p:spPr>
          <a:xfrm>
            <a:off x="3635280" y="126828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Волнушка розовая фото 1"/>
          <p:cNvPicPr/>
          <p:nvPr/>
        </p:nvPicPr>
        <p:blipFill>
          <a:blip r:embed="rId5"/>
          <a:stretch/>
        </p:blipFill>
        <p:spPr>
          <a:xfrm>
            <a:off x="5003640" y="1484280"/>
            <a:ext cx="3600720" cy="25210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Подгруздок белый фото 1"/>
          <p:cNvPicPr/>
          <p:nvPr/>
        </p:nvPicPr>
        <p:blipFill>
          <a:blip r:embed="rId6"/>
          <a:stretch/>
        </p:blipFill>
        <p:spPr>
          <a:xfrm>
            <a:off x="395280" y="3789360"/>
            <a:ext cx="3456000" cy="2571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Масленок поздний фото 1"/>
          <p:cNvPicPr/>
          <p:nvPr/>
        </p:nvPicPr>
        <p:blipFill>
          <a:blip r:embed="rId7"/>
          <a:stretch/>
        </p:blipFill>
        <p:spPr>
          <a:xfrm>
            <a:off x="2411280" y="4149720"/>
            <a:ext cx="2952720" cy="235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http://im4-tub-ru.yandex.net/i?id=121969118-27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4365720"/>
            <a:ext cx="2160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http://im4-tub-ru.yandex.net/i?id=428927845-06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4221000"/>
            <a:ext cx="2376360" cy="2349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0" descr="http://im7-tub-ru.yandex.net/i?id=329983295-08-72&amp;n=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700360" y="220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536400" y="-139680"/>
            <a:ext cx="8315640" cy="16444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324000" y="1484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коснёшься -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учше ты её не тр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жигает руки, ног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торожней с ней в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78136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296000" y="6165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крап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4356000" y="1484280"/>
            <a:ext cx="46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м запах свежести ле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осит позднею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Цветок душистый, н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з кисти белоснежной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4" descr="Ландыши"/>
          <p:cNvPicPr/>
          <p:nvPr/>
        </p:nvPicPr>
        <p:blipFill>
          <a:blip r:embed="rId4"/>
          <a:stretch/>
        </p:blipFill>
        <p:spPr>
          <a:xfrm>
            <a:off x="4572000" y="2924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8"/>
          <p:cNvSpPr/>
          <p:nvPr/>
        </p:nvSpPr>
        <p:spPr>
          <a:xfrm>
            <a:off x="5820840" y="6021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ланды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8321760" cy="115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Лекарственные растения. Папоротник мужской. Dryopteris filix-mas (L.) Schott"/>
          <p:cNvPicPr/>
          <p:nvPr/>
        </p:nvPicPr>
        <p:blipFill>
          <a:blip r:embed="rId2"/>
          <a:stretch/>
        </p:blipFill>
        <p:spPr>
          <a:xfrm>
            <a:off x="250920" y="1125360"/>
            <a:ext cx="1565280" cy="20894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250920" y="3284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апор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уж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КРАПИВА"/>
          <p:cNvPicPr/>
          <p:nvPr/>
        </p:nvPicPr>
        <p:blipFill>
          <a:blip r:embed="rId3"/>
          <a:stretch/>
        </p:blipFill>
        <p:spPr>
          <a:xfrm>
            <a:off x="2268360" y="1197000"/>
            <a:ext cx="1798920" cy="23256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5"/>
          <p:cNvSpPr/>
          <p:nvPr/>
        </p:nvSpPr>
        <p:spPr>
          <a:xfrm>
            <a:off x="2519640" y="342900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ап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Лекарственные растения. Голубика. Vaccinium uliginosum L."/>
          <p:cNvPicPr/>
          <p:nvPr/>
        </p:nvPicPr>
        <p:blipFill>
          <a:blip r:embed="rId4"/>
          <a:stretch/>
        </p:blipFill>
        <p:spPr>
          <a:xfrm>
            <a:off x="4356000" y="1197000"/>
            <a:ext cx="2087640" cy="16556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8"/>
          <p:cNvSpPr/>
          <p:nvPr/>
        </p:nvSpPr>
        <p:spPr>
          <a:xfrm>
            <a:off x="4528440" y="2781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олу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Лекарственные растения. Белена черная. Hyoscyamus niger L."/>
          <p:cNvPicPr/>
          <p:nvPr/>
        </p:nvPicPr>
        <p:blipFill>
          <a:blip r:embed="rId5"/>
          <a:stretch/>
        </p:blipFill>
        <p:spPr>
          <a:xfrm>
            <a:off x="6659640" y="1125360"/>
            <a:ext cx="2089080" cy="2543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0"/>
          <p:cNvSpPr/>
          <p:nvPr/>
        </p:nvSpPr>
        <p:spPr>
          <a:xfrm>
            <a:off x="6666120" y="364500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белена чё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Лекарственные растения. Чистотел большой. Chelidonium majus L."/>
          <p:cNvPicPr/>
          <p:nvPr/>
        </p:nvPicPr>
        <p:blipFill>
          <a:blip r:embed="rId6"/>
          <a:stretch/>
        </p:blipFill>
        <p:spPr>
          <a:xfrm>
            <a:off x="179280" y="4005360"/>
            <a:ext cx="2471760" cy="185400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2"/>
          <p:cNvSpPr/>
          <p:nvPr/>
        </p:nvSpPr>
        <p:spPr>
          <a:xfrm>
            <a:off x="304560" y="595008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истотел больш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4"/>
          <p:cNvSpPr/>
          <p:nvPr/>
        </p:nvSpPr>
        <p:spPr>
          <a:xfrm>
            <a:off x="7380360" y="58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иж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5" descr="Золототысячник обыкновенный, трава от лихорадки, желудочная трава, трава золототысячника - Centaurii heiba (ранее: Hertoa Centaurii). - Энциклопедия лекарственных растений"/>
          <p:cNvPicPr/>
          <p:nvPr/>
        </p:nvPicPr>
        <p:blipFill>
          <a:blip r:embed="rId7"/>
          <a:stretch/>
        </p:blipFill>
        <p:spPr>
          <a:xfrm>
            <a:off x="4716360" y="3213000"/>
            <a:ext cx="173844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6"/>
          <p:cNvSpPr/>
          <p:nvPr/>
        </p:nvSpPr>
        <p:spPr>
          <a:xfrm>
            <a:off x="4643280" y="537372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олототысяч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047"/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6804000" y="4149720"/>
            <a:ext cx="2152800" cy="16095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8"/>
          <p:cNvSpPr/>
          <p:nvPr/>
        </p:nvSpPr>
        <p:spPr>
          <a:xfrm>
            <a:off x="3132000" y="5805360"/>
            <a:ext cx="40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дуван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кар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Одуванчики"/>
          <p:cNvPicPr/>
          <p:nvPr/>
        </p:nvPicPr>
        <p:blipFill>
          <a:blip r:embed="rId9"/>
          <a:stretch/>
        </p:blipFill>
        <p:spPr>
          <a:xfrm>
            <a:off x="2843280" y="3933720"/>
            <a:ext cx="1728720" cy="1866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1920960" y="-285840"/>
            <a:ext cx="5284800" cy="13827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95280" y="9810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На  овчарку  он  похож: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Что  ни  зуб, то  острый  нож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Он  бежит, оскалив  пасть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На  овцу  готов  нап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Пользователь\Downloads\волк1.jpg"/>
          <p:cNvPicPr/>
          <p:nvPr/>
        </p:nvPicPr>
        <p:blipFill>
          <a:blip r:embed="rId2"/>
          <a:srcRect l="0" t="0" r="0" b="4998"/>
          <a:stretch/>
        </p:blipFill>
        <p:spPr>
          <a:xfrm>
            <a:off x="324000" y="2060640"/>
            <a:ext cx="4032000" cy="4321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4"/>
          <p:cNvSpPr/>
          <p:nvPr/>
        </p:nvSpPr>
        <p:spPr>
          <a:xfrm>
            <a:off x="4859280" y="981000"/>
            <a:ext cx="37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Он  в  берлоге спит  зимой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Под  большущею  сосной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А  когда  придёт  весна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onstantia"/>
              </a:rPr>
              <a:t>Просыпается  от с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Пользователь\Downloads\медведь1.jpg"/>
          <p:cNvPicPr/>
          <p:nvPr/>
        </p:nvPicPr>
        <p:blipFill>
          <a:blip r:embed="rId3"/>
          <a:srcRect l="0" t="0" r="1614" b="2329"/>
          <a:stretch/>
        </p:blipFill>
        <p:spPr>
          <a:xfrm>
            <a:off x="4500720" y="2060640"/>
            <a:ext cx="4464000" cy="4321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468360" y="476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то  с  высоких  тёмных  сосен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  ребятишек  шишку  бросил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  в  кусты  через  пенёк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омелькнул, как  огонё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Users\Пользователь\Downloads\белка.jpg"/>
          <p:cNvPicPr/>
          <p:nvPr/>
        </p:nvPicPr>
        <p:blipFill>
          <a:blip r:embed="rId1"/>
          <a:stretch/>
        </p:blipFill>
        <p:spPr>
          <a:xfrm>
            <a:off x="250920" y="2133720"/>
            <a:ext cx="4392360" cy="420372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3"/>
          <p:cNvSpPr/>
          <p:nvPr/>
        </p:nvSpPr>
        <p:spPr>
          <a:xfrm>
            <a:off x="5292720" y="476280"/>
            <a:ext cx="36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ятнистая  хищница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Леса  гроза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  ушках  по  кисточке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лые 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Пользователь\Downloads\рысь.jpg"/>
          <p:cNvPicPr/>
          <p:nvPr/>
        </p:nvPicPr>
        <p:blipFill>
          <a:blip r:embed="rId2"/>
          <a:stretch/>
        </p:blipFill>
        <p:spPr>
          <a:xfrm>
            <a:off x="4788000" y="2133720"/>
            <a:ext cx="4105080" cy="417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250920" y="476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ердитый  недотрог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Живёт  в  глуши  лесно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Иголок  очень  много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  нитки  ни  од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Users\Пользователь\Downloads\ёж.jpg"/>
          <p:cNvPicPr/>
          <p:nvPr/>
        </p:nvPicPr>
        <p:blipFill>
          <a:blip r:embed="rId1"/>
          <a:srcRect l="5083" t="5260" r="3389" b="5260"/>
          <a:stretch/>
        </p:blipFill>
        <p:spPr>
          <a:xfrm>
            <a:off x="395280" y="227664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3"/>
          <p:cNvSpPr/>
          <p:nvPr/>
        </p:nvSpPr>
        <p:spPr>
          <a:xfrm>
            <a:off x="4751280" y="54936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а  деревьями, кустам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омелькнуло  будто  пламя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ромелькнуло, пробежало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ет  ни  дыма, ни  пожар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Пользователь\Downloads\лиса.jpg"/>
          <p:cNvPicPr/>
          <p:nvPr/>
        </p:nvPicPr>
        <p:blipFill>
          <a:blip r:embed="rId2"/>
          <a:stretch/>
        </p:blipFill>
        <p:spPr>
          <a:xfrm>
            <a:off x="4788000" y="2276640"/>
            <a:ext cx="4032000" cy="4010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95280" y="62064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Много  бед  таят  леса: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Волк,  медведь  там  и  лиса.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Наш  зверёк  живёт  в  тревоге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От  беды  уносит  но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Пользователь\Downloads\заяц.jpg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41767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5076720" y="549360"/>
            <a:ext cx="4067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Есть  в  реке  работники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Не  столяры,  не  плотники.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  выстроят  плотину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Хоть  пиши  картину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Users\Пользователь\Downloads\бобр.jpg"/>
          <p:cNvPicPr/>
          <p:nvPr/>
        </p:nvPicPr>
        <p:blipFill>
          <a:blip r:embed="rId2"/>
          <a:stretch/>
        </p:blipFill>
        <p:spPr>
          <a:xfrm>
            <a:off x="4572000" y="227664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324000" y="549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равы  копытами  касаясь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Ходит  по  лесу  красавец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Ходит  смело  и  легко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Рога  раскинув  шир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Пользователь\Downloads\лось.jpg"/>
          <p:cNvPicPr/>
          <p:nvPr/>
        </p:nvPicPr>
        <p:blipFill>
          <a:blip r:embed="rId1"/>
          <a:stretch/>
        </p:blipFill>
        <p:spPr>
          <a:xfrm>
            <a:off x="324000" y="2349360"/>
            <a:ext cx="4032000" cy="381636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3"/>
          <p:cNvSpPr/>
          <p:nvPr/>
        </p:nvSpPr>
        <p:spPr>
          <a:xfrm>
            <a:off x="4716360" y="692280"/>
            <a:ext cx="39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Я  устраиваюсь  ловко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  меня  с  собой  кладовк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Где  кладовка?  За  щекой!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от  я  хитренький  как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C:\Users\Пользователь\Downloads\бурундук.jpg"/>
          <p:cNvPicPr/>
          <p:nvPr/>
        </p:nvPicPr>
        <p:blipFill>
          <a:blip r:embed="rId2"/>
          <a:stretch/>
        </p:blipFill>
        <p:spPr>
          <a:xfrm>
            <a:off x="4716360" y="2349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98480" y="-182520"/>
            <a:ext cx="7564320" cy="2157480"/>
          </a:xfrm>
          <a:prstGeom prst="rect">
            <a:avLst/>
          </a:prstGeom>
          <a:ln w="0">
            <a:noFill/>
          </a:ln>
        </p:spPr>
      </p:pic>
      <p:pic>
        <p:nvPicPr>
          <p:cNvPr id="198" name="460.wav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523.wav" descr=""/>
          <p:cNvPicPr/>
          <p:nvPr/>
        </p:nvPicPr>
        <p:blipFill>
          <a:blip r:embed="rId3"/>
          <a:stretch/>
        </p:blipFill>
        <p:spPr>
          <a:xfrm>
            <a:off x="334800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527.wav" descr=""/>
          <p:cNvPicPr/>
          <p:nvPr/>
        </p:nvPicPr>
        <p:blipFill>
          <a:blip r:embed="rId4"/>
          <a:stretch/>
        </p:blipFill>
        <p:spPr>
          <a:xfrm>
            <a:off x="601200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1" name="2.wav" descr=""/>
          <p:cNvPicPr/>
          <p:nvPr/>
        </p:nvPicPr>
        <p:blipFill>
          <a:blip r:embed="rId5"/>
          <a:stretch/>
        </p:blipFill>
        <p:spPr>
          <a:xfrm>
            <a:off x="7812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2" name="5.wav" descr=""/>
          <p:cNvPicPr/>
          <p:nvPr/>
        </p:nvPicPr>
        <p:blipFill>
          <a:blip r:embed="rId6"/>
          <a:stretch/>
        </p:blipFill>
        <p:spPr>
          <a:xfrm>
            <a:off x="1835280" y="501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15.wav" descr=""/>
          <p:cNvPicPr/>
          <p:nvPr/>
        </p:nvPicPr>
        <p:blipFill>
          <a:blip r:embed="rId7"/>
          <a:stretch/>
        </p:blipFill>
        <p:spPr>
          <a:xfrm>
            <a:off x="485928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16.wav" descr=""/>
          <p:cNvPicPr/>
          <p:nvPr/>
        </p:nvPicPr>
        <p:blipFill>
          <a:blip r:embed="rId8"/>
          <a:stretch/>
        </p:blipFill>
        <p:spPr>
          <a:xfrm>
            <a:off x="766764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свиристель"/>
          <p:cNvPicPr/>
          <p:nvPr/>
        </p:nvPicPr>
        <p:blipFill>
          <a:blip r:embed="rId9"/>
          <a:srcRect l="7407" t="5131" r="14814" b="2566"/>
          <a:stretch/>
        </p:blipFill>
        <p:spPr>
          <a:xfrm>
            <a:off x="179280" y="1125360"/>
            <a:ext cx="1513080" cy="2590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певчий дрозд"/>
          <p:cNvPicPr/>
          <p:nvPr/>
        </p:nvPicPr>
        <p:blipFill>
          <a:blip r:embed="rId10"/>
          <a:srcRect l="2622" t="6729" r="2998" b="5812"/>
          <a:stretch/>
        </p:blipFill>
        <p:spPr>
          <a:xfrm>
            <a:off x="1692360" y="148428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дятел1"/>
          <p:cNvPicPr/>
          <p:nvPr/>
        </p:nvPicPr>
        <p:blipFill>
          <a:blip r:embed="rId11"/>
          <a:srcRect l="8869" t="4202" r="8280" b="-879"/>
          <a:stretch/>
        </p:blipFill>
        <p:spPr>
          <a:xfrm>
            <a:off x="4284720" y="1197000"/>
            <a:ext cx="1942920" cy="30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ястреб"/>
          <p:cNvPicPr/>
          <p:nvPr/>
        </p:nvPicPr>
        <p:blipFill>
          <a:blip r:embed="rId12"/>
          <a:srcRect l="3605" t="3430" r="1955" b="4707"/>
          <a:stretch/>
        </p:blipFill>
        <p:spPr>
          <a:xfrm>
            <a:off x="6227640" y="1557360"/>
            <a:ext cx="2772000" cy="2087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кукушка"/>
          <p:cNvPicPr/>
          <p:nvPr/>
        </p:nvPicPr>
        <p:blipFill>
          <a:blip r:embed="rId13"/>
          <a:srcRect l="3603" t="10350" r="1898" b="3651"/>
          <a:stretch/>
        </p:blipFill>
        <p:spPr>
          <a:xfrm>
            <a:off x="3419640" y="4365720"/>
            <a:ext cx="2952720" cy="196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www.classicnatureprints.com/pr.PZS%20Fauna/pzs.macrocorax.jpg"/>
          <p:cNvPicPr/>
          <p:nvPr/>
        </p:nvPicPr>
        <p:blipFill>
          <a:blip r:embed="rId14"/>
          <a:srcRect l="8565" t="7633" r="5771" b="12945"/>
          <a:stretch/>
        </p:blipFill>
        <p:spPr>
          <a:xfrm>
            <a:off x="971640" y="3789360"/>
            <a:ext cx="2160360" cy="2901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филин"/>
          <p:cNvPicPr/>
          <p:nvPr/>
        </p:nvPicPr>
        <p:blipFill>
          <a:blip r:embed="rId15"/>
          <a:srcRect l="10532" t="1411" r="8943" b="2237"/>
          <a:stretch/>
        </p:blipFill>
        <p:spPr>
          <a:xfrm>
            <a:off x="6804000" y="3452760"/>
            <a:ext cx="1800360" cy="321624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21" descr=""/>
          <p:cNvPicPr/>
          <p:nvPr/>
        </p:nvPicPr>
        <p:blipFill>
          <a:blip r:embed="rId16"/>
          <a:stretch/>
        </p:blipFill>
        <p:spPr>
          <a:xfrm>
            <a:off x="-6480" y="3425760"/>
            <a:ext cx="1633680" cy="49392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23" descr=""/>
          <p:cNvPicPr/>
          <p:nvPr/>
        </p:nvPicPr>
        <p:blipFill>
          <a:blip r:embed="rId17"/>
          <a:stretch/>
        </p:blipFill>
        <p:spPr>
          <a:xfrm>
            <a:off x="2548080" y="3279600"/>
            <a:ext cx="1384200" cy="37800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24" descr=""/>
          <p:cNvPicPr/>
          <p:nvPr/>
        </p:nvPicPr>
        <p:blipFill>
          <a:blip r:embed="rId18"/>
          <a:stretch/>
        </p:blipFill>
        <p:spPr>
          <a:xfrm>
            <a:off x="5211720" y="3638520"/>
            <a:ext cx="878040" cy="38412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25" descr=""/>
          <p:cNvPicPr/>
          <p:nvPr/>
        </p:nvPicPr>
        <p:blipFill>
          <a:blip r:embed="rId19"/>
          <a:stretch/>
        </p:blipFill>
        <p:spPr>
          <a:xfrm>
            <a:off x="7948440" y="3133800"/>
            <a:ext cx="1024200" cy="38412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27" descr=""/>
          <p:cNvPicPr/>
          <p:nvPr/>
        </p:nvPicPr>
        <p:blipFill>
          <a:blip r:embed="rId20"/>
          <a:stretch/>
        </p:blipFill>
        <p:spPr>
          <a:xfrm>
            <a:off x="858960" y="6303960"/>
            <a:ext cx="1128600" cy="4874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8"/>
          <p:cNvSpPr/>
          <p:nvPr/>
        </p:nvSpPr>
        <p:spPr>
          <a:xfrm>
            <a:off x="3995640" y="6021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ук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7740720" y="63961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786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6" dur="772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4534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0" dur="2788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8" dur="450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2" dur="611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749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-103320" y="1249200"/>
            <a:ext cx="13417560" cy="332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05928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Ле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im2-tub-ru.yandex.net/i?id=561711378-52-72&amp;n=21">
            <a:hlinkClick r:id="rId2"/>
          </p:cNvPr>
          <p:cNvPicPr/>
          <p:nvPr/>
        </p:nvPicPr>
        <p:blipFill>
          <a:blip r:embed="rId3"/>
          <a:srcRect l="0" t="0" r="0" b="6784"/>
          <a:stretch/>
        </p:blipFill>
        <p:spPr>
          <a:xfrm>
            <a:off x="5148360" y="981000"/>
            <a:ext cx="3811320" cy="4176720"/>
          </a:xfrm>
          <a:prstGeom prst="rect">
            <a:avLst/>
          </a:prstGeom>
          <a:ln w="0">
            <a:noFill/>
          </a:ln>
        </p:spPr>
      </p:pic>
      <p:pic>
        <p:nvPicPr>
          <p:cNvPr id="107" name="Zvuki_lesa_-_obazhayu_eyo..._stavish_na_polnuyu_gromkost_zakryvaesh_glaza_i_rasslabon..._(iPlayer.fm).mp3" descr=""/>
          <p:cNvPicPr/>
          <p:nvPr/>
        </p:nvPicPr>
        <p:blipFill>
          <a:blip r:embed="rId4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64.wav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0" name="81.wav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130.wav" descr=""/>
          <p:cNvPicPr/>
          <p:nvPr/>
        </p:nvPicPr>
        <p:blipFill>
          <a:blip r:embed="rId3"/>
          <a:stretch/>
        </p:blipFill>
        <p:spPr>
          <a:xfrm>
            <a:off x="7596360" y="119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176.wav" descr=""/>
          <p:cNvPicPr/>
          <p:nvPr/>
        </p:nvPicPr>
        <p:blipFill>
          <a:blip r:embed="rId4"/>
          <a:stretch/>
        </p:blipFill>
        <p:spPr>
          <a:xfrm>
            <a:off x="1547640" y="4005360"/>
            <a:ext cx="29700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286.wav" descr=""/>
          <p:cNvPicPr/>
          <p:nvPr/>
        </p:nvPicPr>
        <p:blipFill>
          <a:blip r:embed="rId5"/>
          <a:stretch/>
        </p:blipFill>
        <p:spPr>
          <a:xfrm>
            <a:off x="3780000" y="4076640"/>
            <a:ext cx="36828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342.wav" descr=""/>
          <p:cNvPicPr/>
          <p:nvPr/>
        </p:nvPicPr>
        <p:blipFill>
          <a:blip r:embed="rId6"/>
          <a:stretch/>
        </p:blipFill>
        <p:spPr>
          <a:xfrm>
            <a:off x="392436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im6-tub-ru.yandex.net/i?id=12623412-70-72&amp;n=21"/>
          <p:cNvPicPr/>
          <p:nvPr/>
        </p:nvPicPr>
        <p:blipFill>
          <a:blip r:embed="rId7"/>
          <a:srcRect l="0" t="0" r="1728" b="4611"/>
          <a:stretch/>
        </p:blipFill>
        <p:spPr>
          <a:xfrm>
            <a:off x="179280" y="476280"/>
            <a:ext cx="2305080" cy="239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скворец"/>
          <p:cNvPicPr/>
          <p:nvPr/>
        </p:nvPicPr>
        <p:blipFill>
          <a:blip r:embed="rId8"/>
          <a:srcRect l="6319" t="903" r="5089" b="3168"/>
          <a:stretch/>
        </p:blipFill>
        <p:spPr>
          <a:xfrm>
            <a:off x="7093080" y="476280"/>
            <a:ext cx="2050920" cy="3056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http://www.stihi.ru/pics/2011/10/17/7499.jpg"/>
          <p:cNvPicPr/>
          <p:nvPr/>
        </p:nvPicPr>
        <p:blipFill>
          <a:blip r:embed="rId9"/>
          <a:srcRect l="4225" t="12216" r="4972" b="6838"/>
          <a:stretch/>
        </p:blipFill>
        <p:spPr>
          <a:xfrm>
            <a:off x="5148360" y="476280"/>
            <a:ext cx="1958760" cy="3168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130320" y="-2262240"/>
            <a:ext cx="35337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http://photonature.com.ua/wp-content/gallery/1/kanyuk_0.jpg"/>
          <p:cNvPicPr/>
          <p:nvPr/>
        </p:nvPicPr>
        <p:blipFill>
          <a:blip r:embed="rId10"/>
          <a:srcRect l="0" t="13528" r="4228" b="0"/>
          <a:stretch/>
        </p:blipFill>
        <p:spPr>
          <a:xfrm>
            <a:off x="3564000" y="3284640"/>
            <a:ext cx="2427120" cy="335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большая"/>
          <p:cNvPicPr/>
          <p:nvPr/>
        </p:nvPicPr>
        <p:blipFill>
          <a:blip r:embed="rId11"/>
          <a:srcRect l="2737" t="4030" r="2762" b="2361"/>
          <a:stretch/>
        </p:blipFill>
        <p:spPr>
          <a:xfrm>
            <a:off x="179280" y="3573360"/>
            <a:ext cx="3168720" cy="253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http://www.donaldisme.dk/guldfi5.jpg"/>
          <p:cNvPicPr/>
          <p:nvPr/>
        </p:nvPicPr>
        <p:blipFill>
          <a:blip r:embed="rId12"/>
          <a:srcRect l="11150" t="13379" r="13034" b="15264"/>
          <a:stretch/>
        </p:blipFill>
        <p:spPr>
          <a:xfrm>
            <a:off x="2556000" y="476280"/>
            <a:ext cx="25207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Zvuk_ushastoy_sovi-Track_12.mp3" descr=""/>
          <p:cNvPicPr/>
          <p:nvPr/>
        </p:nvPicPr>
        <p:blipFill>
          <a:blip r:embed="rId13"/>
          <a:stretch/>
        </p:blipFill>
        <p:spPr>
          <a:xfrm>
            <a:off x="738036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http://down-house.ru/uploads/posts/2008-06/thumbs/1213853324_72248_1024_768.jpg"/>
          <p:cNvPicPr/>
          <p:nvPr/>
        </p:nvPicPr>
        <p:blipFill>
          <a:blip r:embed="rId14"/>
          <a:srcRect l="26343" t="10690" r="41585" b="9891"/>
          <a:stretch/>
        </p:blipFill>
        <p:spPr>
          <a:xfrm>
            <a:off x="6516720" y="3716280"/>
            <a:ext cx="1623960" cy="2959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6"/>
          <p:cNvSpPr/>
          <p:nvPr/>
        </p:nvSpPr>
        <p:spPr>
          <a:xfrm>
            <a:off x="539640" y="278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TextBox 17" descr=""/>
          <p:cNvPicPr/>
          <p:nvPr/>
        </p:nvPicPr>
        <p:blipFill>
          <a:blip r:embed="rId15"/>
          <a:stretch/>
        </p:blipFill>
        <p:spPr>
          <a:xfrm>
            <a:off x="2828880" y="2865600"/>
            <a:ext cx="1395360" cy="3776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8"/>
          <p:cNvSpPr/>
          <p:nvPr/>
        </p:nvSpPr>
        <p:spPr>
          <a:xfrm>
            <a:off x="5148360" y="2997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о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extBox 20" descr=""/>
          <p:cNvPicPr/>
          <p:nvPr/>
        </p:nvPicPr>
        <p:blipFill>
          <a:blip r:embed="rId16"/>
          <a:stretch/>
        </p:blipFill>
        <p:spPr>
          <a:xfrm>
            <a:off x="7412040" y="3492360"/>
            <a:ext cx="1738440" cy="268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3"/>
          <p:cNvSpPr/>
          <p:nvPr/>
        </p:nvSpPr>
        <p:spPr>
          <a:xfrm>
            <a:off x="611280" y="61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большая с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4"/>
          <p:cNvSpPr/>
          <p:nvPr/>
        </p:nvSpPr>
        <p:spPr>
          <a:xfrm>
            <a:off x="4643280" y="623736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ка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>
            <a:off x="7956720" y="6308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5" dur="1301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462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30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507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9" dur="435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9188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0" dur="77289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храна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лесов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ко значение леса в нашей жизн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 даёт древесин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лесах живут промысловые звери и птицы, растут грибы, ягоды и дикие плодовые деревь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чва, покрытая лесами, хорошо сохраняет влаг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а поддерживают полноводность рек, предохраняю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чву от разрушения, предупреждают обвалы в гор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а защищают поля от суховеев и пыльных бур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са украшают землю и очищают возду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этому леса надо беречь и охранять от пожаров, от вырубки. Создавать заповедники для редких видов раст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ародная мудрость гласит: «Человек не напрасно прожи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жизнь, если он вырастил хотя бы одно дерево.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9" dur="2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2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20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2"/>
          <p:cNvSpPr/>
          <p:nvPr/>
        </p:nvSpPr>
        <p:spPr>
          <a:xfrm>
            <a:off x="2195640" y="1125360"/>
            <a:ext cx="496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Шуми, шуми, зеленый лес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наком мне шум твой величав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твой покой, и блеск небе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д головой твоей кудряв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 с детства понимать привы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е молчание нем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твой таинственный язык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что-то близкое, род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2" descr=""/>
          <p:cNvPicPr/>
          <p:nvPr/>
        </p:nvPicPr>
        <p:blipFill>
          <a:blip r:embed="rId1"/>
          <a:stretch/>
        </p:blipFill>
        <p:spPr>
          <a:xfrm>
            <a:off x="219240" y="1884240"/>
            <a:ext cx="9100800" cy="2943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роде сосен, вроде елок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зимою без иголок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165240"/>
            <a:ext cx="6499440" cy="1633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500720" y="2276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листвен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vchaspik.ua/sites/default/files/_.jpeg">
            <a:hlinkClick r:id="rId2"/>
          </p:cNvPr>
          <p:cNvPicPr/>
          <p:nvPr/>
        </p:nvPicPr>
        <p:blipFill>
          <a:blip r:embed="rId3"/>
          <a:srcRect l="1181" t="0" r="780" b="8654"/>
          <a:stretch/>
        </p:blipFill>
        <p:spPr>
          <a:xfrm>
            <a:off x="1763640" y="2637000"/>
            <a:ext cx="5904000" cy="403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68360" y="8362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сной зеленела, летом загорел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енью надела красные корал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Блок-схема: процесс 6"/>
          <p:cNvSpPr/>
          <p:nvPr/>
        </p:nvSpPr>
        <p:spPr>
          <a:xfrm>
            <a:off x="6732720" y="1773360"/>
            <a:ext cx="1368360" cy="360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ряб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im7-tub-ru.yandex.net/i?id=553075712-0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133720"/>
            <a:ext cx="5761080" cy="4456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Лучик света - энциклопедия для детей: птицы.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4284720" y="2349360"/>
            <a:ext cx="4572000" cy="4292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1042920" y="30686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бере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39640" y="765000"/>
            <a:ext cx="4032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сская крас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тоит на поля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зеленой кофто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белом сарафане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62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удри в речку опустил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 о чем-то загрустил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 о чем она грусти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икому не говорит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Рисунок 3" descr="Лучик света - энциклопедия для детей: птицы.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5003640" y="1916280"/>
            <a:ext cx="3889440" cy="46814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2195640" y="2997360"/>
            <a:ext cx="187164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640" y="549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Ее в лесу найдеш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йдем гулять и встрети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тоит колючая, как еж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имою в платье летнем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Рисунок 3" descr="Лучик света - энциклопедия для детей: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4859280" y="2708280"/>
            <a:ext cx="4033800" cy="400536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4"/>
          <p:cNvSpPr/>
          <p:nvPr/>
        </p:nvSpPr>
        <p:spPr>
          <a:xfrm>
            <a:off x="1908000" y="2924280"/>
            <a:ext cx="215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л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092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икто не пугает, а вся дрожит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Рисунок 3" descr="Лучик света - энциклопедия для детей: птицы. растения. Деревья и кустарники"/>
          <p:cNvPicPr/>
          <p:nvPr/>
        </p:nvPicPr>
        <p:blipFill>
          <a:blip r:embed="rId1"/>
          <a:stretch/>
        </p:blipFill>
        <p:spPr>
          <a:xfrm>
            <a:off x="1547640" y="1916280"/>
            <a:ext cx="6193080" cy="468144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роцесс 4"/>
          <p:cNvSpPr/>
          <p:nvPr/>
        </p:nvSpPr>
        <p:spPr>
          <a:xfrm>
            <a:off x="6732720" y="1628640"/>
            <a:ext cx="1439640" cy="216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2286000" y="336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39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ягок, а не пу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елен, а не т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IMG_3006"/>
          <p:cNvPicPr/>
          <p:nvPr/>
        </p:nvPicPr>
        <p:blipFill>
          <a:blip r:embed="rId1"/>
          <a:stretch/>
        </p:blipFill>
        <p:spPr>
          <a:xfrm>
            <a:off x="179280" y="1700280"/>
            <a:ext cx="4032360" cy="2685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2821320" y="11970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о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5" descr="Мхи и лишайники фото 9"/>
          <p:cNvPicPr/>
          <p:nvPr/>
        </p:nvPicPr>
        <p:blipFill>
          <a:blip r:embed="rId2"/>
          <a:stretch/>
        </p:blipFill>
        <p:spPr>
          <a:xfrm>
            <a:off x="4427640" y="333360"/>
            <a:ext cx="4321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Мхи и лишайники фото 12"/>
          <p:cNvPicPr/>
          <p:nvPr/>
        </p:nvPicPr>
        <p:blipFill>
          <a:blip r:embed="rId3"/>
          <a:stretch/>
        </p:blipFill>
        <p:spPr>
          <a:xfrm>
            <a:off x="4381560" y="3530520"/>
            <a:ext cx="4438440" cy="299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4:46:26Z</dcterms:created>
  <dc:creator>Валентина</dc:creator>
  <dc:description/>
  <dc:language>en-US</dc:language>
  <cp:lastModifiedBy>User</cp:lastModifiedBy>
  <dcterms:modified xsi:type="dcterms:W3CDTF">2023-12-20T20:24:11Z</dcterms:modified>
  <cp:revision>9</cp:revision>
  <dc:subject/>
  <dc:title>МБОУ «Староайбесинская СОШ» Алатырский район Чувашская Республ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4a0000000000010243100207f6000400038000</vt:lpwstr>
  </property>
</Properties>
</file>